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4943-8C57-4D2D-BD58-ABD6F6BF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66D2-F279-4DF7-8351-48433DE1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A4E3B-E6EA-4C72-821D-DB44470E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56DDD-6869-40C6-9808-DC154008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1B2F1-2D98-4D11-A4D8-7FCFB00E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BC6DA-308A-4E37-807C-7B322136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9A08A-EAF3-4C1B-9DB0-F4E50F3E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35711-F80D-4E73-A41C-30BE99DB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34C77-6285-4213-BFA6-3D822212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65AFE-B425-41BC-9F9B-91072C83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14B23-1F22-42A0-92FD-7B6577EA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5A463-13BD-44E3-A752-B9A62148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D88-870D-4879-AEE6-CCB1AED6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B8EFA-AFE7-4360-8BC4-D6ADE797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31E2F-DB7C-4AFC-B51D-CD598838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1D234-EFE5-47AD-A186-1E11B389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1267B-B2B5-4093-B1E6-7E752D02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65F8B-552F-4AC3-AD2C-BE59CF88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5BDA4-8410-4967-B217-4182E78B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1B8FD-5F81-4DB1-A726-7D35C2ED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3F4C4-62F9-4F06-BF6D-AAD56B55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F76FE-DC2D-4F8A-83CB-CCF2764D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11487-52BF-46B5-B66C-83BE8E4E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594-748A-4778-A3D4-2575AD34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609C9-A963-46E4-BD52-0155A11B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9BDED-D2A7-4809-A6D7-25BA7479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1F241-E249-406B-9E1E-EBC82D68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D36D5-A6AF-4E2E-8443-839BC69F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61694-D9E4-486A-A6B0-A1BD053A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9E72A-A434-4370-AD08-E5844CCB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77E6E-E72A-42DC-BFA6-5AE439BD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AE766-385E-49D5-98DC-07BEE8B8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A459C-2390-4549-BB70-6833723F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E8D08-E353-4FB1-8200-73AB029C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3ED6-578D-43C2-AAED-8929DC44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A9B6D-F9A7-4096-BE26-252EC1C8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C2837-BD12-47D9-A19E-5A0E4140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A6C09-C81A-4E0B-B8EE-5891FD67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390DD-041B-4A68-910C-3E030CEF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A88E5-A9E9-43B8-968A-73C48DBD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553B4-225F-4225-AC22-1A612B17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C6FB5-036B-4D5B-B128-13A673FF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B2FEC-9C6B-4FF3-9C2E-D718FA34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B4604-473F-4DF0-B1D6-8C279A39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0F6EC-90DC-4FD2-BE0E-7D70F796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86FC-FFFD-440D-B944-EEA24D54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05EB0-31FF-4159-B746-AEA52E78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81F78-2449-4E99-B62C-2BFA8178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8A639-B296-427D-89D0-FED14F56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31EE6-BD51-473A-80EB-A4B17FE2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2278E-9430-4D3D-B6B9-F6B0FE26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0A44A4-683E-49DA-AD86-07549BE4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1E4C5-7E13-42A4-AE2D-DEFF0088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C7957-8A08-41CE-9020-84A6AC7F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0B934-FB16-49D3-8F87-ADC79D0B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7142E3-2567-439C-AD88-407A5E20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D58B-B4F4-40A7-A577-21CA8F84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8128B1-DFC4-437E-B634-5EC3FF62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55959-1476-4D8D-9B3F-97A0DC06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AB077-BA5D-4922-90B8-2BEBF2FC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E1DEF-FEA8-45CA-983D-384DFDDB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4175C-343D-4D18-9F6E-A5F701BF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43653-10CC-4DAF-9072-B963610C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4875F-5DD1-4E9D-9FEE-C934079C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B59CE4-A033-4983-BD6E-C21E5CB4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885EE6-4F84-4B5F-99E8-7F7D8F0B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2E4614-E3EA-4FBB-838C-0B7BA760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2DED-0FFD-4911-ABEC-49D66E01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8E8B2E-3D05-441B-A75E-C4942562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564724-DDC5-4205-A870-F1EAE8E6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C4FEA-10E5-4A2E-991A-780FA489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5AABCA-B89C-4843-B941-C4898DF8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A9D51F-8DE8-42BA-9549-6AC83390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A29448-2578-4126-BC2A-A38DA7B6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AD2155-FD50-40AA-9172-01C2B907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A1A7BC-856E-4C3B-B87F-A89A9970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2E52AA-9C6E-43FF-A73B-022B6ED8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E660FA-53E1-452F-A56C-C0D43342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0C1B-810B-42D4-A21A-5178FA50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B1F3E6-CBA6-44AA-B579-CFE032B6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4048AE-2CAE-4F0A-A0BF-1C03C697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DB20F0-BF30-44B6-B06D-88949121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809A0-A025-489F-B5DE-9B1CDDA4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234801-0BBA-4B4C-A270-E89C82E7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7F5382-9672-4217-AB72-04C6BFFA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B5FCA7-3F8A-4F21-935F-8B375498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56DFFE-70ED-4DD3-A21D-CE67293B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E7796B-F88F-45F5-B438-60E8FE55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1B720B-D6A5-4233-BD15-2F9C1D12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070D-C20D-4A66-93AB-708B7743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B953B-C2D7-4AFC-803C-4C8EC2EF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06270D-6279-456E-937E-8A6D8CC8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CB7E4C-B83C-49AF-A3BE-451620AC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9458E6-CEEC-4CD9-8280-856ED31E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D22BC7-7DE4-4F47-B273-31AE5356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2E854D-84F4-4B44-835D-91BA1E3D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7AF59-5A3D-40D7-8879-1FF99AAE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1E4DF6-80AB-4985-A4C2-0461A1F3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16AF2E-22DF-4A3B-9379-05652F40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405F44-2A07-450F-B539-D9BFBC88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3895-47AF-4D6B-A61C-246815CB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6BA43F-7701-4EB6-8555-F99C79F1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6122EC-FEF3-42BE-8F59-E291C3F6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3D0762-F2BA-4BFB-A527-C068799B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11A4AC-31DF-4C44-8BA7-BE7D14FC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65A724-87E5-4ACD-B80D-20303CB7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B15E69-144C-4F89-AF84-F7A43128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C0E83F-2B04-406B-AC5B-B621B4BC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4C63B7-9693-499B-8FA7-78D932DA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68201B-E631-41A8-846B-4548B82D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87B783-A6C2-41EF-8B5E-06F571B3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AE6B-9A65-40A7-A5A2-CA9F0A92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16C4-B171-4323-89D6-41275FEC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7E2036-EC0C-49B0-916A-CB3538A1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F33F48-24BA-46CF-8E7C-687CBD72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F66211-BA01-457B-840F-7C72E588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9552D3-78D4-457B-A6B3-97E5D63D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995DE3-CB0F-4588-AF60-079C8505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28125E-2677-4069-948F-499E5F52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BF153A-2F1E-4041-A29B-2EDCE5FF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1278FD-7E88-460A-8185-668B2AEB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E3F3F2-1652-4926-9BCD-CD108E4E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D3982B-0507-473D-9035-31E339A4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D587-E778-43D2-B56B-7CCA0E3A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B4CD47-FA0E-4DFB-A3EF-D14E2003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1259D8-DB76-4C90-BD09-A6F59CE6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BF6E72-81C5-4061-A113-A0AAC258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9C38D8-4F02-48F7-BFDD-09D6AFAD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9B20B3-4765-4E1C-9CE4-937304A7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63B26A-6712-481D-85B2-FE47C4D3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7CB819-0B0B-4D17-88CD-CBF025F0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36041F-1D85-4D4D-B7C3-18BE9F9D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1D3342-2F8A-4B36-9494-CDA10C33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514113-71B1-443A-A38D-0881A884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F50A-3828-4F49-8D42-AF454A9E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BF443D-8B8D-4E77-B990-8C8B8DE8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216B36-CF14-4460-A365-372C3579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F415BF-5DCF-44C0-AF74-51FE854A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86E9C0-D58A-4238-A440-04901BE0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2707D1-6DFA-4670-9EE8-1ED32C56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7578EF-992D-45DB-8B61-A546CCA9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F1535C-070E-4870-82C3-40EAE3B9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537764-89F4-4BCC-8456-CF779183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539A1F-261C-4F10-8946-4AA347B8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97EF77-C6F6-4449-8FD4-A135D7F1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7D1B-C1C4-4935-8FF7-17D9ADB6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1A1D8E-9A40-45FA-B5D2-0C2A1A56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9D9F57-3C5F-4EDC-AE04-2F8E46A7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BB5C69-133E-436E-8DC3-CFEF0081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3DA665-9379-49B2-B016-C2F884C5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09FD7E-66CA-4CA4-8D8F-A5F0A485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ED188B-90C8-4AF5-AEBD-CC2132E5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52DD97-4308-4CE4-B23D-1567D735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EA2C4E-CE00-4D4C-BB80-4D5E8F57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457660-B225-49CC-B67B-0AE9E8FB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65A2AA-07D5-4A22-8844-80F72887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9619-4AD7-45FF-9548-A74F217E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A4694C-F6B5-4F52-ABB3-AF3D35CF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374CC0-F82B-46DB-BA63-4F08D8D4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F16347-B40D-4375-BFBB-F3842542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33803F-DAB2-42F1-9F77-6389190C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0920A3-3104-4DC5-BF32-A7EBF579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C01E02-4DAA-422C-9A42-035E98DA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227AAF-0B66-4205-8853-3260007B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ABCC1B-4B86-4048-95B4-F59D2948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C90007-1942-46A2-B626-D9023F81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AAD661-A143-4045-9D71-08C024F2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7D7DB-7365-4BB6-A9F7-BB6AEFC0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B5BF63-265D-429B-8FF6-A04038F5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8D8F0A-6A5C-470A-861C-5B0FC8C8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2D421E-C4EC-4830-92E9-274C3944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0CF74-6D03-49F1-81FB-92A3D6D6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CC548-693D-4B73-9404-B73F3E06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B8CCD-920F-47E6-A1F0-8A16AEA7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0C957-15D6-4D8B-9478-712B4D68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3FE6-16E9-4C74-911E-5A1FAB8D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D025C-D82A-477B-A359-1C733CEF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E19D6-76B2-456F-B22D-692922B4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BD047-2E4A-4F70-A8C8-EB141C40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EF24D-8A08-4C64-996D-9AA1A8D7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0B9A6-FFAD-460B-A99D-325912BD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87113-3C49-4212-8BCA-5467B9CF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2951D-3C7A-4A1B-88D5-6028A8A0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678A3-61A6-497D-B78E-5F971D20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A4906-1F5F-4C0D-B71E-B52D1C92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C00AC-F852-4742-A91B-BA5DA702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E9D9-59CD-42F4-87F6-579A69C7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5EB86-CDC7-4F6B-B4F3-98A5ECAB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9A56B-7416-4EA6-88CA-ACDEA324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DFC03-23CE-4183-954E-3FE40AB4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EE9A0-01D9-4121-BF2C-2CDEF84D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0F5D5-6D2B-4242-A98F-4A062D2C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03B72-4BA2-4577-B83D-F539C5A9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3CCD6-1E1B-44BA-B038-9063F579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C7E4B-FDF7-4965-B47C-70254416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D2F59-B583-4339-97BB-30EE5712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CBC27-5826-4A2E-A863-9D53D8E1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9D5-B44B-4BB4-B469-44FD6C21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4905D-377C-40E7-8CFB-338F6026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2703D-9961-47A2-909A-D075C6B7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301EA-F632-4794-9011-2C9EEF4D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83375-E6EE-463D-A95C-AC64DEE5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0F031-3974-4812-889D-EE3ECFB7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DAE8C-E346-4D2B-868B-B7B9B13E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DB0DD-C40D-42AB-8FD9-A51B6C25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F4497-08CA-4385-BF50-44908551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629CC-7DC7-4DD3-A034-B9C59345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B46F6-1BD4-4037-AC1F-92CD20CB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D39-1966-4187-B3FF-474E9895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F97F1-F32D-48BB-B782-36050EFA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30E49-FA45-4955-8807-F22DADE2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91D9A-BEF3-416B-AF4F-BF31DE99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44D16-7709-46B9-BBD6-5B7C9948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E641C-8D42-42FB-8F2E-52973880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3D79C-4E57-40F6-9F5B-466489E7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A8C23-1619-4932-BE56-2D1B292A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D06CE-6364-44BA-A9B8-22DA371E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A00D2-3348-482C-813C-76C1AAEE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DA5CD-B94A-4CDA-81B9-592B509A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368-C4B0-47EE-A6AD-238F88F0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5DCF2-8FCD-42E1-A99D-3919D4C1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CF6E4-7BA0-4C51-9249-AD0A8DC8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2971E-77E5-40A1-BF07-2BF954A0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2BDA1-2B27-4B75-9C13-CAC4D50F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0FADF-9421-4EEC-9E97-0750EE38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7D795-9F05-46D6-BFD3-71F3ABD3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171B3-8BD7-46AD-9BF8-55FC0C17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0F657-2FD9-4CA0-AEF4-D61E0671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AF273-2CC5-43FD-86BC-45EA9DC1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34981-104E-407C-8F70-645A4823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3179-310E-42A8-A21B-8BD5D231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7816B-D20A-4B29-A6DB-AD36BD1D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73B8C-8239-45DB-A8B8-C55A81C8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5EE97-1880-4807-8F9D-F31D237D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43CF0-CA63-4712-8011-AC0F3977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25442-88E6-488F-ADE2-983CFDC3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17222-370B-4CC6-B9AE-0BA4BCEF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97085-2C9C-4E1F-BB99-7BEA957A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9401E-64DB-4CB6-A839-BF3FB926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96EAD-8D04-490F-ADBF-FF542754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45086-B988-4F4C-A467-BBF13E91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AD4-F612-4B41-BB8F-C0991314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85B12-DCE9-4674-A60A-F32C79EE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F64B3-F9F1-4FD8-9F3B-C14269E1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6C31B-E46C-4BCC-9585-5307844B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E3DA5-5EAB-47F6-A1BB-B30102FB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2C6E7-96F7-4106-9FB5-EA81CC0B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87C29-5A48-4960-8C1A-34B0BD37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4CE1D-2B20-4EB9-9D02-2E9423CC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FC521-51C5-40FC-8F75-7F503B94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35335-B428-484B-8E3D-07CF1C15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93A8C-26BF-4A8C-851E-A4E6718B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D26F-F4F0-44B7-967F-9A996D631A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E381-E6D6-4B0D-840E-10AA6D7F45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EAF3-31A8-409A-88AA-45E7ACB5F8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BD28-C25B-45B1-AF11-72CB2CE98D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5493-6DDB-49C6-A7AE-AB5C2EC874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B23F-2F07-43FB-AF09-4F551E902B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BCCB-4EC5-4C3E-B1CA-75A3213FF7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E292-E871-4505-AE46-804C9C8C7D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65B3-E404-4959-93AC-B83D840391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318E-86E4-4426-A1BB-EFC4DE6B3E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D433-D96B-454C-A728-133B4B2E2A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7B70-F711-4DFC-BEC1-2E0B5FCB2B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2491-567A-414C-B0AD-566270619D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C42A-C8BD-47EC-B36E-CC75C2AA2F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B9AF-591F-406E-93F7-387AEECD04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D5AC-D718-40BB-AA7A-05BD512690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A3B6-9B06-4C62-BE6D-C4EBB7207E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20D0-9F24-4E29-8572-3586F0EF1E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73BD-B5AA-453A-B1C7-FB315AD570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64BA-FACC-4659-BEFF-5ECE799FE9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970F-81DD-42E7-A0FF-711142FEE2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2EBB-8266-44B2-9771-AF82A2A30F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87CE-4A31-443F-9BE1-1F15909F6D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078A-23E9-4D70-9BEB-126EA59E2F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A145-E2CB-44EE-9B1C-BD21A9954D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3B48-2668-45F6-925A-2147E5A6B8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4120-E830-4159-A40C-D57E461185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BB0C-9869-430C-9EF8-3722CC6EC9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9150-E16E-46A1-B434-3F7FDF7162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84A8-E1C7-4269-9863-ADFF0368BE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1B0E-F7C5-4F91-860A-270F5CB0A3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6893-2D3A-45C5-B01F-E45A462600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1C48-3AF4-4A8E-83E8-5380964B74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89D6-9628-400E-B1C0-553217FE3D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2569-8BB9-4ED5-BA85-8AC3642303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FC73-1FBA-41D3-8E70-39825E18EE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460A-1D71-40CF-A3CD-BA16F91A3E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9F99-E18B-4278-89CE-F1F0F0BBCC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8691-0F2A-4DFA-8EBB-E4EB6C11C0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45D9-908C-40DE-A2E1-B57222043B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2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509840" y="3195720"/>
            <a:ext cx="612432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71360" y="1490760"/>
            <a:ext cx="8801280" cy="38764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763640" y="363528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图片 60430" descr=""/>
          <p:cNvPicPr/>
          <p:nvPr/>
        </p:nvPicPr>
        <p:blipFill>
          <a:blip r:embed="rId3"/>
          <a:stretch/>
        </p:blipFill>
        <p:spPr>
          <a:xfrm>
            <a:off x="1574640" y="2433600"/>
            <a:ext cx="6639120" cy="1114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492360" y="3635280"/>
            <a:ext cx="28764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图片 60433" descr=""/>
          <p:cNvPicPr/>
          <p:nvPr/>
        </p:nvPicPr>
        <p:blipFill>
          <a:blip r:embed="rId5"/>
          <a:stretch/>
        </p:blipFill>
        <p:spPr>
          <a:xfrm>
            <a:off x="654120" y="3895560"/>
            <a:ext cx="1655640" cy="4143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338640" y="397188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图片 60435" descr=""/>
          <p:cNvPicPr/>
          <p:nvPr/>
        </p:nvPicPr>
        <p:blipFill>
          <a:blip r:embed="rId7"/>
          <a:stretch/>
        </p:blipFill>
        <p:spPr>
          <a:xfrm>
            <a:off x="4975200" y="3730680"/>
            <a:ext cx="38959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185760" y="1371600"/>
            <a:ext cx="8772480" cy="4114800"/>
          </a:xfrm>
          <a:prstGeom prst="rect">
            <a:avLst/>
          </a:prstGeom>
          <a:ln w="0">
            <a:noFill/>
          </a:ln>
        </p:spPr>
      </p:pic>
      <p:pic>
        <p:nvPicPr>
          <p:cNvPr id="930" name="图片 59412" descr=""/>
          <p:cNvPicPr/>
          <p:nvPr/>
        </p:nvPicPr>
        <p:blipFill>
          <a:blip r:embed="rId2"/>
          <a:stretch/>
        </p:blipFill>
        <p:spPr>
          <a:xfrm>
            <a:off x="1182600" y="2262240"/>
            <a:ext cx="3303720" cy="1023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1835280" y="327492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3583080" y="325116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1979640" y="359244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3386160" y="359244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图片 59417" descr=""/>
          <p:cNvPicPr/>
          <p:nvPr/>
        </p:nvPicPr>
        <p:blipFill>
          <a:blip r:embed="rId7"/>
          <a:stretch/>
        </p:blipFill>
        <p:spPr>
          <a:xfrm>
            <a:off x="2184480" y="3943440"/>
            <a:ext cx="1419120" cy="136188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59418" descr=""/>
          <p:cNvPicPr/>
          <p:nvPr/>
        </p:nvPicPr>
        <p:blipFill>
          <a:blip r:embed="rId8"/>
          <a:stretch/>
        </p:blipFill>
        <p:spPr>
          <a:xfrm>
            <a:off x="5176800" y="2279520"/>
            <a:ext cx="3486240" cy="9907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9"/>
          <a:stretch/>
        </p:blipFill>
        <p:spPr>
          <a:xfrm>
            <a:off x="5940360" y="326088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0"/>
          <a:stretch/>
        </p:blipFill>
        <p:spPr>
          <a:xfrm>
            <a:off x="7667640" y="326556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1"/>
          <a:stretch/>
        </p:blipFill>
        <p:spPr>
          <a:xfrm>
            <a:off x="6084720" y="3592440"/>
            <a:ext cx="28764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59422" descr=""/>
          <p:cNvPicPr/>
          <p:nvPr/>
        </p:nvPicPr>
        <p:blipFill>
          <a:blip r:embed="rId12"/>
          <a:stretch/>
        </p:blipFill>
        <p:spPr>
          <a:xfrm>
            <a:off x="6226200" y="3952800"/>
            <a:ext cx="14670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8373" descr=""/>
          <p:cNvPicPr/>
          <p:nvPr/>
        </p:nvPicPr>
        <p:blipFill>
          <a:blip r:embed="rId1"/>
          <a:stretch/>
        </p:blipFill>
        <p:spPr>
          <a:xfrm>
            <a:off x="185760" y="1362240"/>
            <a:ext cx="8772480" cy="4133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900000" y="167148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4067280" y="168120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6877080" y="167148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1258920" y="196380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3635280" y="195408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7"/>
          <a:stretch/>
        </p:blipFill>
        <p:spPr>
          <a:xfrm>
            <a:off x="7236000" y="196056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8"/>
          <a:stretch/>
        </p:blipFill>
        <p:spPr>
          <a:xfrm>
            <a:off x="2771640" y="2276640"/>
            <a:ext cx="28764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9"/>
          <a:stretch/>
        </p:blipFill>
        <p:spPr>
          <a:xfrm>
            <a:off x="1955880" y="2647800"/>
            <a:ext cx="216000" cy="1936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0"/>
          <a:stretch/>
        </p:blipFill>
        <p:spPr>
          <a:xfrm>
            <a:off x="2771640" y="3265560"/>
            <a:ext cx="28764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1"/>
          <a:stretch/>
        </p:blipFill>
        <p:spPr>
          <a:xfrm>
            <a:off x="1941480" y="3573360"/>
            <a:ext cx="216000" cy="1936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2"/>
          <a:stretch/>
        </p:blipFill>
        <p:spPr>
          <a:xfrm>
            <a:off x="6526080" y="4753080"/>
            <a:ext cx="28764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3"/>
          <a:stretch/>
        </p:blipFill>
        <p:spPr>
          <a:xfrm>
            <a:off x="8253360" y="475308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54" name="图片 58387" descr=""/>
          <p:cNvPicPr/>
          <p:nvPr/>
        </p:nvPicPr>
        <p:blipFill>
          <a:blip r:embed="rId14"/>
          <a:stretch/>
        </p:blipFill>
        <p:spPr>
          <a:xfrm>
            <a:off x="3059280" y="5037120"/>
            <a:ext cx="1655640" cy="4143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5"/>
          <a:stretch/>
        </p:blipFill>
        <p:spPr>
          <a:xfrm>
            <a:off x="5734080" y="5129280"/>
            <a:ext cx="2872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57:17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